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DED-0DF5-4507-952A-656FE3B6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98C6-6D3C-4456-8A57-CC306692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1D3D-A8FC-4749-9970-AC350D28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D606-E19C-44D2-99C1-909D3B50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B19-E499-4060-9D57-ECD09F14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ACDA-42FB-4A35-A2C2-77B210EC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C546-2963-46FB-A857-5BD24247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CA33-B794-4ACB-9210-C394516A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8496-C046-4B2D-89C2-5023C33C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A17C-27BD-42A2-8841-0F06A704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613-F5C1-4D33-A980-27A1491C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D79-C8A3-472A-A3B9-CA2CE34C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F04F-DFE0-444B-9094-3C0F9CFF8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hsgrads.wikispaces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228600"/>
            <a:ext cx="57150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HS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plying to College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pt. 2010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81280" y="4267080"/>
            <a:ext cx="204156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876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my option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 your resear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eck program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ill you finance your edu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cholarships/Bursaries/Loans/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et your deadlines. Be sure to complete all steps required – portfolio, entrance exam or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00200" y="53352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ife after high school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8001000" cy="57909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What are the important dat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Feb 1, 2010 – applications received by this date will be given equal consideration by the colle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May 3, 2010 – applicants must confirm offers of ad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June 15, 2010 – earliest date colleges may require tuition f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153280" cy="6019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Check your academic inform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CA" sz="3600" spc="-1" strike="noStrike" u="sng">
                <a:solidFill>
                  <a:srgbClr val="000000"/>
                </a:solidFill>
                <a:uFillTx/>
                <a:latin typeface="Arial"/>
              </a:rPr>
              <a:t>must 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let us know if you are taking a course outside of regular day school (night school, summer school, e-  learning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Check out the grad wiki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hsgrads.wikispaces.com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8.   Q &amp;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7:42:51Z</dcterms:created>
  <dc:creator>Customer</dc:creator>
  <dc:description/>
  <dc:language>en-US</dc:language>
  <cp:lastModifiedBy>Customer</cp:lastModifiedBy>
  <dcterms:modified xsi:type="dcterms:W3CDTF">2009-11-17T16:00:12Z</dcterms:modified>
  <cp:revision>14</cp:revision>
  <dc:subject/>
  <dc:title>RHS Applying to University  Sept. 2010  </dc:title>
</cp:coreProperties>
</file>